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2FF4-A8ED-4E51-A280-6A57DFE9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B3E5-FD97-4C73-9A62-F40C469C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F4D6-A1E3-43CD-9A69-00B1DF2D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8D055-F4C0-47AF-A592-8FE7BB22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EF7A-F5EA-4339-BF79-1BA92845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F9BC-5EE3-4782-91F9-0A346860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E5D5-E7B1-4539-B240-F19BC766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86EF-A084-452E-A2D4-D9D68D62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9530-83ED-4FA7-B6C8-1DE7E879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86FF-C57C-4DDA-AD29-2C8B0D2C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DA99-CF23-441E-83F8-F85CD2D0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4B03-6862-4E47-B97D-7589FA97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6C6D-3E49-4E01-9463-D567E627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4F35-C3ED-4540-BA1B-1471BF91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277B-25F1-4354-9855-B4F89A8E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29FE-8A8C-4992-A12B-66FE37AC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5177-CA1D-41D6-B90D-4947B9DF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23AA-C2DE-4039-A534-F7E98FB3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8081-0445-423E-9663-F6341506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1D34-97A0-4C0A-AAB2-31D28E8B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11E1-7CD1-4E4F-8498-F20C71C7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9A9DC-B85B-4688-A7FC-604E658F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2C12-6C27-4F0E-83F5-1E4B34B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E248-E9A5-4080-971A-DCC59575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9AEBA-0199-439F-9E08-0307E50FF39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04578-CF31-4129-9B9A-47947C3A5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348E2-0D22-41FF-9BE0-02B47933FB2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D184D-20F3-4670-BF31-9607072C59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idal Energy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ny Ger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ila Doug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ke Yo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ANd9GcQJafkpREusGfkbuDi77ywzeGEeiZo8g9Dj-fk_V_gwraFllP_DX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tidal energ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dal energy works by the tide rushing through holes in a dam, called a barrage that have a turbine inside them that spins to power a generator producing electricit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newable resou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n’t poll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ter it’s built, the energy is fr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fuel is nee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ap to maint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des are predic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6" descr="ANd9GcS_Y8rGccn3IQ-Yyye0K9WNfLN8NWhYwmARdIpxGmkO5cqI9cB-1A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advant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rrages are expensive to bui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fects the wildlife-fish can’t migrat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provides power for 10 hours during tidal act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an “eye sor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8" descr="ANd9GcRu5-w-auFErzn_C9GGors6hqUE6OC_Y0sUUJJhIEimx67zlmBgNg"/>
          <p:cNvPicPr/>
          <p:nvPr/>
        </p:nvPicPr>
        <p:blipFill>
          <a:blip r:embed="rId1"/>
          <a:stretch/>
        </p:blipFill>
        <p:spPr>
          <a:xfrm>
            <a:off x="4495680" y="3962520"/>
            <a:ext cx="39625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causes the tid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oon is the primary cause of the t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greater gravitational put on the ocean causes it to swell and be dragged along with movement of the moon and su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ANd9GcTTJHyGaK6c1nm2MLw70nQmsdH_glmXZoLjFroS5jOYbYLuT-IF"/>
          <p:cNvPicPr/>
          <p:nvPr/>
        </p:nvPicPr>
        <p:blipFill>
          <a:blip r:embed="rId1"/>
          <a:stretch/>
        </p:blipFill>
        <p:spPr>
          <a:xfrm>
            <a:off x="3641760" y="3809880"/>
            <a:ext cx="504504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d9GcSrVmx0GT4XhedGbbS7iAn2XUYV-B-PVBQPIbCLoiKNcb4fNmG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ay of Fundy moves 100 billion tons of seawater every tidal movement making it a perfect spot for the use of tidal energ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dal energy is being used in places around the world in France, Russia, Hawaii. http:/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tSBACzRE3Gw&amp;playnext=1&amp;list=PLB041B96A21D4084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6:51:54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4-07T17:29:41Z</dcterms:modified>
  <cp:revision>4</cp:revision>
  <dc:subject/>
  <dc:title>What is tidal energy?</dc:title>
</cp:coreProperties>
</file>